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5B0-31C8-4360-BB9A-D55E5337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335-42CE-423A-B3A3-B7CB5636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A3C-D1D1-421B-A2DB-CF4B258C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26C-BB96-47D2-9EB2-24F07C37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DEF-FA1B-4666-9921-F851D106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813-95E1-4BD8-AFB1-5959CC64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4CE-A07B-4261-A022-180EE72A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2A5-ABD1-4A3E-8C09-4371EF71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E00-1CB9-4A60-B4C5-D451C029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DC5-F3EF-4922-8168-2E10B33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DAC-87C2-4B29-ACF9-AF3C563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209-BAA5-465A-B3F1-C9170C08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E37D-035B-4DCB-B6C3-03EFA06382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26ED-B8F4-4E4C-BB42-60549C1D8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762120" y="1219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ational Platform on Land and Water Management in Ethi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095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NBDC meeting – 30 May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Logic and jus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896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Weak institutional linkages, sectoral policies and fragmented invest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 cross-institutional learning, local action and polic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daptive capac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mmunities and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sponsiveness of instit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acilitate action in Land, Water and NR Management need to be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nteg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development &amp; policy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active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national plat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governmental institutions, NGOs, donors, private sector and civil societies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imulate sharing and learn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uide evidence-based policy formu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hance effective coord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ess institutional and policy constra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ild institutional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e out and up best practic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here do we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ant to go?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676520" y="6019920"/>
            <a:ext cx="1447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ther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39152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 district 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3915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1774440" y="2438280"/>
            <a:ext cx="1066680" cy="35816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8"/>
          <p:cNvSpPr/>
          <p:nvPr/>
        </p:nvSpPr>
        <p:spPr>
          <a:xfrm>
            <a:off x="2743200" y="168912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739152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ional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3733920" y="6019920"/>
            <a:ext cx="1904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tes within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>
            <a:off x="5181480" y="556272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>
            <a:off x="5105520" y="411480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791320" y="601992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n-project sites within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0"/>
          <p:cNvSpPr/>
          <p:nvPr/>
        </p:nvSpPr>
        <p:spPr>
          <a:xfrm>
            <a:off x="4800600" y="266688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41"/>
          <p:cNvSpPr/>
          <p:nvPr/>
        </p:nvSpPr>
        <p:spPr>
          <a:xfrm>
            <a:off x="6019920" y="5562720"/>
            <a:ext cx="0" cy="45720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2"/>
          <p:cNvSpPr/>
          <p:nvPr/>
        </p:nvSpPr>
        <p:spPr>
          <a:xfrm>
            <a:off x="7924680" y="533412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5"/>
          <p:cNvSpPr/>
          <p:nvPr/>
        </p:nvSpPr>
        <p:spPr>
          <a:xfrm>
            <a:off x="7924680" y="5943600"/>
            <a:ext cx="0" cy="3808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6"/>
          <p:cNvSpPr/>
          <p:nvPr/>
        </p:nvSpPr>
        <p:spPr>
          <a:xfrm>
            <a:off x="8077320" y="5334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aring &amp;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7"/>
          <p:cNvSpPr/>
          <p:nvPr/>
        </p:nvSpPr>
        <p:spPr>
          <a:xfrm>
            <a:off x="8077320" y="59403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caling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2"/>
          <p:cNvSpPr/>
          <p:nvPr/>
        </p:nvSpPr>
        <p:spPr>
          <a:xfrm flipV="1">
            <a:off x="6324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632448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6248520" y="2743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5"/>
          <p:cNvSpPr/>
          <p:nvPr/>
        </p:nvSpPr>
        <p:spPr>
          <a:xfrm flipV="1">
            <a:off x="6705720" y="2361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D617-08AB-4E20-9073-DF1ACF5F9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095880" y="19810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3733920" y="19051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5105520" y="2133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4952880" y="17524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4343400" y="2133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3657600" y="2362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2971800" y="205740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ounded Rectangle 129" descr=""/>
          <p:cNvPicPr/>
          <p:nvPr/>
        </p:nvPicPr>
        <p:blipFill>
          <a:blip r:embed="rId1"/>
          <a:stretch/>
        </p:blipFill>
        <p:spPr>
          <a:xfrm>
            <a:off x="901800" y="1663560"/>
            <a:ext cx="561960" cy="4140360"/>
          </a:xfrm>
          <a:prstGeom prst="rect">
            <a:avLst/>
          </a:prstGeom>
          <a:ln w="0">
            <a:noFill/>
          </a:ln>
        </p:spPr>
      </p:pic>
      <p:sp>
        <p:nvSpPr>
          <p:cNvPr id="79" name="Rounded Rectangle 130"/>
          <p:cNvSpPr/>
          <p:nvPr/>
        </p:nvSpPr>
        <p:spPr>
          <a:xfrm>
            <a:off x="6934320" y="76212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d4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 f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eft-Right Arrow 132"/>
          <p:cNvSpPr/>
          <p:nvPr/>
        </p:nvSpPr>
        <p:spPr>
          <a:xfrm>
            <a:off x="1676520" y="205740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eft-Right Arrow 135"/>
          <p:cNvSpPr/>
          <p:nvPr/>
        </p:nvSpPr>
        <p:spPr>
          <a:xfrm>
            <a:off x="1676520" y="495288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eft-Right Arrow 136"/>
          <p:cNvSpPr/>
          <p:nvPr/>
        </p:nvSpPr>
        <p:spPr>
          <a:xfrm>
            <a:off x="1676520" y="350532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eft-Right Arrow 137"/>
          <p:cNvSpPr/>
          <p:nvPr/>
        </p:nvSpPr>
        <p:spPr>
          <a:xfrm rot="18607800">
            <a:off x="6809400" y="1473480"/>
            <a:ext cx="469800" cy="255600"/>
          </a:xfrm>
          <a:prstGeom prst="leftRightArrow">
            <a:avLst>
              <a:gd name="adj1" fmla="val 50000"/>
              <a:gd name="adj2" fmla="val 4995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aptop"/>
          <p:cNvSpPr/>
          <p:nvPr/>
        </p:nvSpPr>
        <p:spPr>
          <a:xfrm>
            <a:off x="1752480" y="380880"/>
            <a:ext cx="1371600" cy="762120"/>
          </a:xfrm>
          <a:custGeom>
            <a:avLst/>
            <a:gdLst>
              <a:gd name="textAreaLeft" fmla="*/ 282240 w 1371600"/>
              <a:gd name="textAreaRight" fmla="*/ 1099440 w 1371600"/>
              <a:gd name="textAreaTop" fmla="*/ 65520 h 762120"/>
              <a:gd name="textAreaBottom" fmla="*/ 434880 h 7621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39"/>
          <p:cNvSpPr/>
          <p:nvPr/>
        </p:nvSpPr>
        <p:spPr>
          <a:xfrm>
            <a:off x="1981080" y="407880"/>
            <a:ext cx="9144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8"/>
          <p:cNvSpPr/>
          <p:nvPr/>
        </p:nvSpPr>
        <p:spPr>
          <a:xfrm>
            <a:off x="2743200" y="306072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9"/>
          <p:cNvSpPr/>
          <p:nvPr/>
        </p:nvSpPr>
        <p:spPr>
          <a:xfrm>
            <a:off x="6095880" y="33526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3657600" y="3276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5105520" y="3505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4952880" y="31240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4343400" y="3505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3581280" y="373392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5"/>
          <p:cNvSpPr/>
          <p:nvPr/>
        </p:nvSpPr>
        <p:spPr>
          <a:xfrm>
            <a:off x="2971800" y="342900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8"/>
          <p:cNvSpPr/>
          <p:nvPr/>
        </p:nvSpPr>
        <p:spPr>
          <a:xfrm>
            <a:off x="2743200" y="450864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9"/>
          <p:cNvSpPr/>
          <p:nvPr/>
        </p:nvSpPr>
        <p:spPr>
          <a:xfrm>
            <a:off x="6095880" y="480060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3733920" y="47242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5105520" y="49528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2"/>
          <p:cNvSpPr/>
          <p:nvPr/>
        </p:nvSpPr>
        <p:spPr>
          <a:xfrm>
            <a:off x="4952880" y="457200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4343400" y="49528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3657600" y="51814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2971800" y="48769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>
            <a:off x="6172200" y="3962520"/>
            <a:ext cx="587520" cy="205740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 flipH="1">
            <a:off x="2701440" y="4114800"/>
            <a:ext cx="879480" cy="190512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1"/>
          <p:cNvSpPr/>
          <p:nvPr/>
        </p:nvSpPr>
        <p:spPr>
          <a:xfrm flipV="1">
            <a:off x="662940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8"/>
          <p:cNvSpPr/>
          <p:nvPr/>
        </p:nvSpPr>
        <p:spPr>
          <a:xfrm>
            <a:off x="5410080" y="2666880"/>
            <a:ext cx="0" cy="18288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4419720" y="4114800"/>
            <a:ext cx="0" cy="190512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formation shar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 place fo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 experiences together from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ifferent s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ng as a knowledge base b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cumen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eriences, lessons,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Communic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eriences, lessons, best practices to other 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best practices t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apacity build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 training and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co-ordin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ongst organizations within and across sectors through harmonized appr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stitutional linkag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cal, regional, na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(and flows between th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‘talking’ to action; bring experiences and lessons together in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integr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model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can be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tested, replicated, scaled out and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erface between practitioners and policy mak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highlight issues that are important to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ng as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stepping st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formation of regional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platfo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link to other platforms in synergistic way (e.g. SLM plat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0C2E-BC50-411A-973B-D0F33162A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What are we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: actor landscap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form meeting to discuss need and 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: SC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: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form meeting to establish TWGs and ac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: S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: TWG meetings (pl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form meeting (pl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/Dec: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form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B8AC-AA48-4BD0-BC85-C22038181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429000" y="1828800"/>
            <a:ext cx="2286000" cy="38088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ering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981080" y="2438280"/>
            <a:ext cx="1524240" cy="30492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pport NB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ound Single Corner Rectangle 5"/>
          <p:cNvSpPr/>
          <p:nvPr/>
        </p:nvSpPr>
        <p:spPr>
          <a:xfrm>
            <a:off x="220968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ound Single Corner Rectangle 6"/>
          <p:cNvSpPr/>
          <p:nvPr/>
        </p:nvSpPr>
        <p:spPr>
          <a:xfrm>
            <a:off x="320040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ound Single Corner Rectangle 7"/>
          <p:cNvSpPr/>
          <p:nvPr/>
        </p:nvSpPr>
        <p:spPr>
          <a:xfrm>
            <a:off x="4191120" y="3962520"/>
            <a:ext cx="76176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ound Single Corner Rectangle 8"/>
          <p:cNvSpPr/>
          <p:nvPr/>
        </p:nvSpPr>
        <p:spPr>
          <a:xfrm>
            <a:off x="525780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ound Single Corner Rectangle 9"/>
          <p:cNvSpPr/>
          <p:nvPr/>
        </p:nvSpPr>
        <p:spPr>
          <a:xfrm>
            <a:off x="6248520" y="3962520"/>
            <a:ext cx="76176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ound Single Corner Rectangle 10"/>
          <p:cNvSpPr/>
          <p:nvPr/>
        </p:nvSpPr>
        <p:spPr>
          <a:xfrm>
            <a:off x="731520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ound Single Corner Rectangle 11"/>
          <p:cNvSpPr/>
          <p:nvPr/>
        </p:nvSpPr>
        <p:spPr>
          <a:xfrm>
            <a:off x="114300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14"/>
          <p:cNvSpPr/>
          <p:nvPr/>
        </p:nvSpPr>
        <p:spPr>
          <a:xfrm>
            <a:off x="4572000" y="2209680"/>
            <a:ext cx="0" cy="76212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16"/>
          <p:cNvSpPr/>
          <p:nvPr/>
        </p:nvSpPr>
        <p:spPr>
          <a:xfrm>
            <a:off x="1523880" y="3733920"/>
            <a:ext cx="6172200" cy="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traight Connector 19"/>
          <p:cNvSpPr/>
          <p:nvPr/>
        </p:nvSpPr>
        <p:spPr>
          <a:xfrm>
            <a:off x="152388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20"/>
          <p:cNvSpPr/>
          <p:nvPr/>
        </p:nvSpPr>
        <p:spPr>
          <a:xfrm>
            <a:off x="259092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traight Connector 21"/>
          <p:cNvSpPr/>
          <p:nvPr/>
        </p:nvSpPr>
        <p:spPr>
          <a:xfrm>
            <a:off x="358128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22"/>
          <p:cNvSpPr/>
          <p:nvPr/>
        </p:nvSpPr>
        <p:spPr>
          <a:xfrm>
            <a:off x="457200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23"/>
          <p:cNvSpPr/>
          <p:nvPr/>
        </p:nvSpPr>
        <p:spPr>
          <a:xfrm>
            <a:off x="563868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24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25"/>
          <p:cNvSpPr/>
          <p:nvPr/>
        </p:nvSpPr>
        <p:spPr>
          <a:xfrm>
            <a:off x="769608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7"/>
          <p:cNvSpPr/>
          <p:nvPr/>
        </p:nvSpPr>
        <p:spPr>
          <a:xfrm>
            <a:off x="1676520" y="4876920"/>
            <a:ext cx="6019560" cy="914400"/>
          </a:xfrm>
          <a:prstGeom prst="ellipse">
            <a:avLst/>
          </a:prstGeom>
          <a:solidFill>
            <a:srgbClr val="c4e2c5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programs’, projects,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28"/>
          <p:cNvSpPr/>
          <p:nvPr/>
        </p:nvSpPr>
        <p:spPr>
          <a:xfrm>
            <a:off x="3200400" y="2971800"/>
            <a:ext cx="2743200" cy="533520"/>
          </a:xfrm>
          <a:prstGeom prst="roundRect">
            <a:avLst>
              <a:gd name="adj" fmla="val 16667"/>
            </a:avLst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l. Platform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31"/>
          <p:cNvSpPr/>
          <p:nvPr/>
        </p:nvSpPr>
        <p:spPr>
          <a:xfrm>
            <a:off x="3505320" y="2590920"/>
            <a:ext cx="1066680" cy="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34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Callout 41"/>
          <p:cNvSpPr/>
          <p:nvPr/>
        </p:nvSpPr>
        <p:spPr>
          <a:xfrm>
            <a:off x="6858000" y="1600200"/>
            <a:ext cx="1828800" cy="1143000"/>
          </a:xfrm>
          <a:prstGeom prst="wedgeEllipseCallout">
            <a:avLst>
              <a:gd name="adj1" fmla="val -58175"/>
              <a:gd name="adj2" fmla="val 43259"/>
            </a:avLst>
          </a:prstGeom>
          <a:solidFill>
            <a:srgbClr val="ffffff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to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Straight Arrow Connector 43"/>
          <p:cNvCxnSpPr/>
          <p:nvPr/>
        </p:nvCxnSpPr>
        <p:spPr>
          <a:xfrm>
            <a:off x="1599120" y="4419720"/>
            <a:ext cx="305640" cy="45792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8" name="Straight Arrow Connector 46"/>
          <p:cNvCxnSpPr/>
          <p:nvPr/>
        </p:nvCxnSpPr>
        <p:spPr>
          <a:xfrm flipH="1">
            <a:off x="4571640" y="4419720"/>
            <a:ext cx="2160" cy="30528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9" name="Straight Arrow Connector 49"/>
          <p:cNvCxnSpPr/>
          <p:nvPr/>
        </p:nvCxnSpPr>
        <p:spPr>
          <a:xfrm>
            <a:off x="2666880" y="4419720"/>
            <a:ext cx="153360" cy="38160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Straight Arrow Connector 52"/>
          <p:cNvCxnSpPr/>
          <p:nvPr/>
        </p:nvCxnSpPr>
        <p:spPr>
          <a:xfrm>
            <a:off x="3581280" y="4419720"/>
            <a:ext cx="76680" cy="30528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1" name="Straight Arrow Connector 60"/>
          <p:cNvCxnSpPr/>
          <p:nvPr/>
        </p:nvCxnSpPr>
        <p:spPr>
          <a:xfrm flipH="1">
            <a:off x="5562360" y="4495320"/>
            <a:ext cx="78480" cy="30564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2" name="Straight Arrow Connector 62"/>
          <p:cNvCxnSpPr/>
          <p:nvPr/>
        </p:nvCxnSpPr>
        <p:spPr>
          <a:xfrm flipH="1">
            <a:off x="6476400" y="4495320"/>
            <a:ext cx="154440" cy="30564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3" name="Straight Arrow Connector 64"/>
          <p:cNvCxnSpPr/>
          <p:nvPr/>
        </p:nvCxnSpPr>
        <p:spPr>
          <a:xfrm flipH="1">
            <a:off x="7238160" y="4572000"/>
            <a:ext cx="381960" cy="38160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sp>
        <p:nvSpPr>
          <p:cNvPr id="144" name="Curved Left Arrow 69"/>
          <p:cNvSpPr/>
          <p:nvPr/>
        </p:nvSpPr>
        <p:spPr>
          <a:xfrm>
            <a:off x="6705720" y="2971800"/>
            <a:ext cx="2209680" cy="2971800"/>
          </a:xfrm>
          <a:custGeom>
            <a:avLst/>
            <a:gdLst>
              <a:gd name="textAreaLeft" fmla="*/ 295920 w 2209680"/>
              <a:gd name="textAreaRight" fmla="*/ 1913760 w 2209680"/>
              <a:gd name="textAreaTop" fmla="*/ 535680 h 2971800"/>
              <a:gd name="textAreaBottom" fmla="*/ 21600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89" stAng="-5400000" swAng="5400000"/>
                <a:lnTo>
                  <a:pt x="21600" y="11804"/>
                </a:lnTo>
                <a:arcTo wR="21600" hR="7789" stAng="0" swAng="3263686"/>
                <a:lnTo>
                  <a:pt x="5400" y="21353"/>
                </a:lnTo>
                <a:lnTo>
                  <a:pt x="0" y="17585"/>
                </a:lnTo>
                <a:lnTo>
                  <a:pt x="5400" y="13322"/>
                </a:lnTo>
                <a:lnTo>
                  <a:pt x="5400" y="15330"/>
                </a:lnTo>
                <a:arcTo wR="21600" hR="7789" stAng="3263686" swAng="-2934023"/>
                <a:lnTo>
                  <a:pt x="20870" y="9796"/>
                </a:lnTo>
                <a:arcTo wR="21600" hR="7789" stAng="-329662" swAng="-5070338"/>
                <a:close/>
              </a:path>
              <a:path fill="darkenLess" w="21600" h="21600">
                <a:moveTo>
                  <a:pt x="0" y="0"/>
                </a:moveTo>
                <a:arcTo wR="21600" hR="7789" stAng="-5400000" swAng="5400000"/>
                <a:lnTo>
                  <a:pt x="21600" y="11804"/>
                </a:lnTo>
                <a:arcTo wR="21600" hR="7789" stAng="0" swAng="-329662"/>
                <a:lnTo>
                  <a:pt x="20870" y="9796"/>
                </a:lnTo>
                <a:arcTo wR="21600" hR="7789" stAng="-329662" swAng="-5070338"/>
                <a:close/>
              </a:path>
            </a:pathLst>
          </a:custGeom>
          <a:solidFill>
            <a:srgbClr val="dddfe5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urved Down Arrow 71"/>
          <p:cNvSpPr/>
          <p:nvPr/>
        </p:nvSpPr>
        <p:spPr>
          <a:xfrm rot="16200000">
            <a:off x="-152280" y="3200040"/>
            <a:ext cx="2971800" cy="2209680"/>
          </a:xfrm>
          <a:custGeom>
            <a:avLst/>
            <a:gdLst>
              <a:gd name="textAreaLeft" fmla="*/ 535680 w 2971800"/>
              <a:gd name="textAreaRight" fmla="*/ 2160000 w 2971800"/>
              <a:gd name="textAreaTop" fmla="*/ 295920 h 2209680"/>
              <a:gd name="textAreaBottom" fmla="*/ 19137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89" hR="21600" stAng="10800000" swAng="5400000"/>
                <a:lnTo>
                  <a:pt x="11804" y="0"/>
                </a:lnTo>
                <a:arcTo wR="7789" hR="21600" stAng="-5400000" swAng="3263686"/>
                <a:lnTo>
                  <a:pt x="21353" y="16200"/>
                </a:lnTo>
                <a:lnTo>
                  <a:pt x="17585" y="21600"/>
                </a:lnTo>
                <a:lnTo>
                  <a:pt x="13322" y="16200"/>
                </a:lnTo>
                <a:lnTo>
                  <a:pt x="15330" y="16200"/>
                </a:lnTo>
                <a:arcTo wR="7789" hR="21600" stAng="-2136314" swAng="-2934023"/>
                <a:lnTo>
                  <a:pt x="9796" y="730"/>
                </a:lnTo>
                <a:arcTo wR="7789" hR="21600" stAng="-5729662" swAng="-5070338"/>
                <a:close/>
              </a:path>
              <a:path fill="darkenLess" w="21600" h="21600">
                <a:moveTo>
                  <a:pt x="0" y="21600"/>
                </a:moveTo>
                <a:arcTo wR="7789" hR="21600" stAng="10800000" swAng="5400000"/>
                <a:lnTo>
                  <a:pt x="7789" y="0"/>
                </a:lnTo>
                <a:arcTo wR="7789" hR="21600" stAng="-5400000" swAng="329662"/>
                <a:lnTo>
                  <a:pt x="9796" y="730"/>
                </a:lnTo>
                <a:arcTo wR="7789" hR="21600" stAng="-5729662" swAng="-5070338"/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Thematic working grou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264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cal inno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ich may include watershed management, land and water and vegetation)– to be led by Birru Yitaferu from ARARI (chair) and Dr. Assefa Taa from OROMIA research center (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al Inno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Zelalem, RiPPLE (chair) and Alan Duncan/Katherine Snyder (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Lobbying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sfay Alemseged (Ethiopian Institute of Water Resources), Dr. Assefa Admasie from Ethiopia Economic Institution,  Leulseged Yirgu from Ri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ce Ecosystem and Climate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elaku Tadesse (SLM) (chair) and Belay Semane from Addis Ababa University (co-cha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see the relation between NBDC and the national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we realistically achieve till end 2013 (in terms of time and funding); what should be our foc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TWGs appropriate when we look at our own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C19-0F78-48C0-80C6-30190D0D8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ee the involvement and linkages of the various projects with the national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 you see for yourself in the thematic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E84C-312B-4CC3-8DF4-9B8CE8EB5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Kentice Tikolo</dc:creator>
  <dc:description/>
  <dc:language>en-US</dc:language>
  <cp:lastModifiedBy>Swaans, Kees (ILRI)</cp:lastModifiedBy>
  <dcterms:modified xsi:type="dcterms:W3CDTF">2012-05-30T09:01:18Z</dcterms:modified>
  <cp:revision>446</cp:revision>
  <dc:subject/>
  <dc:title>PowerPoint Presentation</dc:title>
</cp:coreProperties>
</file>